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4718-8878-46EF-8A16-15EDB374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A9F2-FABB-4F6A-B71D-C3A9316A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310D-FA91-4E6C-8B32-0E15948B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400B-1BE8-4176-A5EE-6B3332C2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E809-68AE-49B9-B834-797FFDFB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FF79-D7E8-40E8-8F9D-725A628C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AE26-3359-42AA-A624-8D70892A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3904-A061-489D-8AEC-DF407435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1C26-F480-4BB1-B449-B3678389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67CD-BDFC-494B-8B29-E9D7774D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0075-80AB-4DFF-88E0-6CA31386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66D8-A626-4690-B6E0-D16CC2EF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C205-3BE7-4D72-A9C6-C9B798F2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2AA8-9DB6-466C-BB27-A8FB6AD2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24F2-C358-4041-A2AE-E8344BCE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F57B-B97C-4DD8-9C45-B8EDBE75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E2F8-3ACB-41EC-B11F-2C31FF71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4155-89CE-4680-82B9-69AE79C6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A8D4-EE1D-436B-A33F-2D99030B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3812-9086-473E-AA7B-46402877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3512-A143-4B53-A0D3-334E8FAC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94E7-B3BF-4D7F-9916-D323F271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1266-49C3-4823-95E8-A85DF6B1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22F7-9019-4295-A1D9-5026F995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B5A5-4732-49CC-91A3-F77CC0D1112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53CE-57A1-4D33-8F57-1D98EA3031C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NAČRTOVANJE RAZISKAVE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31640" y="5013360"/>
            <a:ext cx="73040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laž Mesec in Liljana Rihter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NAČRTOVANJE RAZISKAV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AZE RAZISKAVE – NAČRTOVANJ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1268280"/>
            <a:ext cx="7416720" cy="6426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FORMULACIJA PROBLEMA (narava težavne situacije; kakšne podatke potrebujemo; kdo so udeleženci, cilji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4360" y="2276640"/>
            <a:ext cx="6840360" cy="6426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OPREDELITEV ZNAČILNOSTI, KI JIH PROUČUJEMO (definiranje spremenljivk, n. merskih instrumentov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58920" y="3284640"/>
            <a:ext cx="7200720" cy="91692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OPREDELITEV ENOT RAZISKOVANJA IN NAČRT VZORČENJA (katera družbena celota bo predmet raziskave – stvarno, krajevno in časovno: populacija in vzorec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32000" y="4581360"/>
            <a:ext cx="705636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NAČRT STATISTIČNE OBDELAVE (tabele, grafi, statistične mere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03640" y="1916280"/>
            <a:ext cx="0" cy="360360"/>
          </a:xfrm>
          <a:prstGeom prst="line">
            <a:avLst/>
          </a:prstGeom>
          <a:ln w="93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76720" y="2997360"/>
            <a:ext cx="0" cy="215640"/>
          </a:xfrm>
          <a:prstGeom prst="line">
            <a:avLst/>
          </a:prstGeom>
          <a:ln w="93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32000" y="5589720"/>
            <a:ext cx="698508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NAČRT ZBIRANJA PODATKOV (pripomočki, postopki zbiranja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27640" y="6381720"/>
            <a:ext cx="4321080" cy="368280"/>
          </a:xfrm>
          <a:prstGeom prst="rect">
            <a:avLst/>
          </a:prstGeom>
          <a:solidFill>
            <a:srgbClr val="f2dffd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ČASOVNI PLAN, PREDRAČUN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64000" y="4221000"/>
            <a:ext cx="0" cy="360360"/>
          </a:xfrm>
          <a:prstGeom prst="line">
            <a:avLst/>
          </a:prstGeom>
          <a:ln w="93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651640" y="5300640"/>
            <a:ext cx="0" cy="289080"/>
          </a:xfrm>
          <a:prstGeom prst="line">
            <a:avLst/>
          </a:prstGeom>
          <a:ln w="93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24720" y="6237360"/>
            <a:ext cx="0" cy="144360"/>
          </a:xfrm>
          <a:prstGeom prst="line">
            <a:avLst/>
          </a:prstGeom>
          <a:ln w="93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NAČRTOVANJE RAZISKAVE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AZE RAZISKAVE – NAČRTOVANJ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Obdobje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od odobritve predloga do končanega načrta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Končni izdelek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načrt raziskav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Končna odločitev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sklep o začetku terenske izvedbe po načrt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Opravila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izdelava delov načrta po gornji shem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11280" y="3429000"/>
            <a:ext cx="1439640" cy="1079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71640" y="3429000"/>
            <a:ext cx="1440000" cy="1079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2360" y="3429000"/>
            <a:ext cx="1440000" cy="1079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93080" y="3429000"/>
            <a:ext cx="1439640" cy="1079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50920" y="378936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11640" y="378936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72360" y="378936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0561800">
            <a:off x="610560" y="4508640"/>
            <a:ext cx="2522520" cy="1100160"/>
          </a:xfrm>
          <a:custGeom>
            <a:avLst/>
            <a:gdLst>
              <a:gd name="textAreaLeft" fmla="*/ 0 w 2522520"/>
              <a:gd name="textAreaRight" fmla="*/ 2522880 w 2522520"/>
              <a:gd name="textAreaTop" fmla="*/ 0 h 1100160"/>
              <a:gd name="textAreaBottom" fmla="*/ 1100520 h 1100160"/>
            </a:gdLst>
            <a:ahLst/>
            <a:rect l="textAreaLeft" t="textAreaTop" r="textAreaRight" b="textAreaBottom"/>
            <a:pathLst>
              <a:path w="21600" h="21600">
                <a:moveTo>
                  <a:pt x="3352" y="5784"/>
                </a:moveTo>
                <a:arcTo wR="-8979" hR="-8979" stAng="-8762457" swAng="-14273799"/>
                <a:lnTo>
                  <a:pt x="929" y="15182"/>
                </a:lnTo>
                <a:arcTo wR="10800" hR="10800" stAng="9363744" swAng="14273799"/>
                <a:lnTo>
                  <a:pt x="21997" y="18341"/>
                </a:lnTo>
                <a:lnTo>
                  <a:pt x="16986" y="19319"/>
                </a:lnTo>
                <a:lnTo>
                  <a:pt x="16008" y="14307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0561800">
            <a:off x="3131280" y="4508640"/>
            <a:ext cx="2522520" cy="1100160"/>
          </a:xfrm>
          <a:custGeom>
            <a:avLst/>
            <a:gdLst>
              <a:gd name="textAreaLeft" fmla="*/ 0 w 2522520"/>
              <a:gd name="textAreaRight" fmla="*/ 2522880 w 2522520"/>
              <a:gd name="textAreaTop" fmla="*/ 0 h 1100160"/>
              <a:gd name="textAreaBottom" fmla="*/ 1100520 h 1100160"/>
            </a:gdLst>
            <a:ahLst/>
            <a:rect l="textAreaLeft" t="textAreaTop" r="textAreaRight" b="textAreaBottom"/>
            <a:pathLst>
              <a:path w="21600" h="21600">
                <a:moveTo>
                  <a:pt x="3352" y="5784"/>
                </a:moveTo>
                <a:arcTo wR="-8979" hR="-8979" stAng="-8762457" swAng="-14273799"/>
                <a:lnTo>
                  <a:pt x="929" y="15182"/>
                </a:lnTo>
                <a:arcTo wR="10800" hR="10800" stAng="9363744" swAng="14273799"/>
                <a:lnTo>
                  <a:pt x="21997" y="18341"/>
                </a:lnTo>
                <a:lnTo>
                  <a:pt x="16986" y="19319"/>
                </a:lnTo>
                <a:lnTo>
                  <a:pt x="16008" y="14307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0561800">
            <a:off x="5650920" y="4508640"/>
            <a:ext cx="2522520" cy="1100160"/>
          </a:xfrm>
          <a:custGeom>
            <a:avLst/>
            <a:gdLst>
              <a:gd name="textAreaLeft" fmla="*/ 0 w 2522520"/>
              <a:gd name="textAreaRight" fmla="*/ 2522880 w 2522520"/>
              <a:gd name="textAreaTop" fmla="*/ 0 h 1100160"/>
              <a:gd name="textAreaBottom" fmla="*/ 1100520 h 1100160"/>
            </a:gdLst>
            <a:ahLst/>
            <a:rect l="textAreaLeft" t="textAreaTop" r="textAreaRight" b="textAreaBottom"/>
            <a:pathLst>
              <a:path w="21600" h="21600">
                <a:moveTo>
                  <a:pt x="3352" y="5784"/>
                </a:moveTo>
                <a:arcTo wR="-8979" hR="-8979" stAng="-8762457" swAng="-14273799"/>
                <a:lnTo>
                  <a:pt x="929" y="15182"/>
                </a:lnTo>
                <a:arcTo wR="10800" hR="10800" stAng="9363744" swAng="14273799"/>
                <a:lnTo>
                  <a:pt x="21997" y="18341"/>
                </a:lnTo>
                <a:lnTo>
                  <a:pt x="16986" y="19319"/>
                </a:lnTo>
                <a:lnTo>
                  <a:pt x="16008" y="14307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1640" y="378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32000" y="378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92720" y="378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51640" y="378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5280" y="1628640"/>
            <a:ext cx="8569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AZE RAZISKAVE – NAČRTOVANJE: odnosi med deli načrt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Med načrtovanjem lahko spremenimo predhodne odločitve pod vplivom kasnejših odločitev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NAČRTOVANJE RAZISKAV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NAČRTOVANJE RAZISKAVE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569080" cy="55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AZE RAZISKAVE – NAČRTOVANJE: </a:t>
            </a:r>
            <a:r>
              <a:rPr b="1" lang="en-US" sz="2800" spc="-1" strike="noStrike">
                <a:solidFill>
                  <a:srgbClr val="cc99ff"/>
                </a:solidFill>
                <a:latin typeface="Verdana"/>
              </a:rPr>
              <a:t>Formuliranje problem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Problem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= težavna praktična situacija ob odločanju med več alternativami, ko ne vemo, katera je prava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Formuliranje problema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= analiza sestavin težavne situacije z namenom ugotoviti, kakšne informacije potrebujemo, kakšne so posledice možnih ugotovitev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Zapis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aziskovalnih vprašanj in hipotez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24364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NAČRTOVANJE RAZISKAVE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AZE RAZISKAVE – NAČRTOVANJE: </a:t>
            </a: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Izbor spremenljivk in izdelava idealiziranega načrt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Izbor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relevantnih značilnost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zdelava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hipotetičnega model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odnosov med spremenljivkam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Zamisel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idealne izvedb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brez omejite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NAČRTOVANJE RAZISKAVE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FAZE RAZISKAVE – NAČRTOVANJE: </a:t>
            </a:r>
            <a:r>
              <a:rPr b="1" lang="sl-SI" sz="3200" spc="-1" strike="noStrike">
                <a:solidFill>
                  <a:srgbClr val="cc99ff"/>
                </a:solidFill>
                <a:latin typeface="Verdana"/>
              </a:rPr>
              <a:t>Opredelitev spremenljivk in izdelava merskih instrumento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Definiranje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značilnosti (realne, operacionalne definicije), določitev domen in vrednosti ali modalitet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Izdelava osnutkov </a:t>
            </a: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merskih instrumento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Preizkus</a:t>
            </a:r>
            <a:r>
              <a:rPr b="0" lang="sl-SI" sz="32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merskih instrumento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NAČRTOVANJE RAZISKAVE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AZE RAZISKAVE – NAČRTOVANJE: </a:t>
            </a: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Opredelitev populacije in načrt vzorče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Populacij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= statistična množic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Odločitev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Ali popisati celotno populacijo ali izbrati vzorec (ugotovitve posplošiti na populacijo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dločitev za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vrsto vzorče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NAČRTOVANJE RAZISKAVE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AZE RAZISKAVE – NAČRTOVANJE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Načrt statistične analiz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črt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urejanj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podatkov: načrt tabel, priprava slepih tab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ačrt 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analiz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podatkov: statistične mere in preizkusi (f, p%, AS, SD, r, t-test …)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NAČRTOVANJE RAZISKAVE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AZE RAZISKAVE – NAČRTOVANJE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Načrt zbiranja podatko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dločitev za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metodo zbiranja gradiv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(opazovanje, spraševanje, analiza sekundarnega gradiva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zdelava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merskih instrumentov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(vprašalnik, vodila za intervju, popisnice, zbirniki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NAČRTOVANJE RAZISKAVE </a:t>
            </a:r>
            <a:br>
              <a:rPr sz="3200"/>
            </a:b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FAZE RAZISKAVE – NAČRTOVANJE: </a:t>
            </a:r>
            <a:br>
              <a:rPr sz="2800"/>
            </a:br>
            <a:r>
              <a:rPr b="1" lang="en-US" sz="2800" spc="-1" strike="noStrike">
                <a:solidFill>
                  <a:srgbClr val="cc99ff"/>
                </a:solidFill>
                <a:latin typeface="Verdana"/>
              </a:rPr>
              <a:t>Časovno-terminski načrt izvedbe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68360" y="1981080"/>
          <a:ext cx="8424720" cy="4116600"/>
        </p:xfrm>
        <a:graphic>
          <a:graphicData uri="http://schemas.openxmlformats.org/drawingml/2006/table">
            <a:tbl>
              <a:tblPr/>
              <a:tblGrid>
                <a:gridCol w="1950840"/>
                <a:gridCol w="1619280"/>
                <a:gridCol w="1617840"/>
                <a:gridCol w="1363680"/>
                <a:gridCol w="187308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opravilo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začetek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konec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kdo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redstvo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Pošiljanje obvestila anketirancem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.3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7.3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J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00 listov A4, ovojnice, žig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estanek anketarjev: zadnji napotki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.3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.3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V., M.,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Natisnjeni vprašalniki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NAČRTOVANJE RAZISKAVE: Pojem načrtovanj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2276640"/>
            <a:ext cx="8964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Raziskovanj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= usmerjeno poizvedovanj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Načrtovanj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= vnaprejšnje odločanje, predvidevanje odločitev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Načrt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= zapis predvidenih odločitev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NAČRTOVANJE RAZISKAV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AZE RAZISKAVE – FAZA IZVEDB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468360" y="1989000"/>
            <a:ext cx="475128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ZBIRANJE PODATKOV (teren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40000" y="2997360"/>
            <a:ext cx="3384360" cy="6426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OBDELAVA PODATKOV (urejanje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19640" y="4292640"/>
            <a:ext cx="352872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NALIZA PODATKOV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27640" y="5445000"/>
            <a:ext cx="439236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UREJENI, ANALIZIRANI PODATKI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03640" y="2492280"/>
            <a:ext cx="0" cy="360360"/>
          </a:xfrm>
          <a:prstGeom prst="line">
            <a:avLst/>
          </a:prstGeom>
          <a:ln w="93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3280" y="3789360"/>
            <a:ext cx="0" cy="431640"/>
          </a:xfrm>
          <a:prstGeom prst="line">
            <a:avLst/>
          </a:prstGeom>
          <a:ln w="93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43640" y="4653000"/>
            <a:ext cx="0" cy="792000"/>
          </a:xfrm>
          <a:prstGeom prst="line">
            <a:avLst/>
          </a:prstGeom>
          <a:ln w="93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NAČRTOVANJE RAZISKAVE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AZE RAZISKAVE – FAZA IZVEDB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Obdobje: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od izdelanega načrta do analiziranih podatkov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Končni izdelek: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tabelirani podatki, izračunane stat. mer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Končna odločitev: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sklep o začetku pisanja poročil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Opravila: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usposabljanje anketarjev – odhod na teren – zbiranje gradiva – kontrola zbiranja gradiva – urejanje gradiva– izračun statističnih m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NAČRTOVANJE RAZISKAV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AZE RAZISKAVE – FAZA POROČA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468360" y="1989000"/>
            <a:ext cx="4751280" cy="6426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ISANJE OSNOVNEGA POROČILA (elaborat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40000" y="3357720"/>
            <a:ext cx="4464000" cy="91692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KOMUNICIRANJE O UGOTOVITVAH – DISEMINACIJA (predstavitve, sestanki, predavanja, članki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19640" y="5013360"/>
            <a:ext cx="352872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OROČILO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08360" y="2637000"/>
            <a:ext cx="0" cy="647640"/>
          </a:xfrm>
          <a:prstGeom prst="line">
            <a:avLst/>
          </a:prstGeom>
          <a:ln w="93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221000"/>
            <a:ext cx="0" cy="792360"/>
          </a:xfrm>
          <a:prstGeom prst="line">
            <a:avLst/>
          </a:prstGeom>
          <a:ln w="93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NAČRTOVANJE RAZISKAVE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DRUGI MODELI POTEKA RAZISKAV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Raziskava </a:t>
            </a: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kot komuniciranje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in </a:t>
            </a: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reševanje problemov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(po Ackoff, 1953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Raziskava kot </a:t>
            </a: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spoznavni krog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(po Wallace)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NAČRTOVANJE RAZISKAV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Raziskava kot proces </a:t>
            </a:r>
            <a:r>
              <a:rPr b="0" lang="sl-SI" sz="2400" spc="-1" strike="noStrike">
                <a:solidFill>
                  <a:srgbClr val="006666"/>
                </a:solidFill>
                <a:latin typeface="Verdana"/>
              </a:rPr>
              <a:t>reševanja problemov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 in </a:t>
            </a:r>
            <a:r>
              <a:rPr b="0" lang="sl-SI" sz="2400" spc="-1" strike="noStrike">
                <a:solidFill>
                  <a:srgbClr val="cc99ff"/>
                </a:solidFill>
                <a:latin typeface="Verdana"/>
              </a:rPr>
              <a:t>komunicir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"/>
          <p:cNvSpPr/>
          <p:nvPr/>
        </p:nvSpPr>
        <p:spPr>
          <a:xfrm>
            <a:off x="4067280" y="1413000"/>
            <a:ext cx="201600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OPAZOVANEC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4000" y="2060640"/>
            <a:ext cx="3168360" cy="642600"/>
          </a:xfrm>
          <a:prstGeom prst="rect">
            <a:avLst/>
          </a:prstGeom>
          <a:solidFill>
            <a:srgbClr val="f2dffd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Ustvari stimulus ali opazuje že obstoječeg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2997360"/>
            <a:ext cx="3240000" cy="6426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oišče ali ustvari situacijo, ki omogoča opazovanj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" y="3933720"/>
            <a:ext cx="3240000" cy="368280"/>
          </a:xfrm>
          <a:prstGeom prst="rect">
            <a:avLst/>
          </a:prstGeom>
          <a:solidFill>
            <a:srgbClr val="f2dffd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Priučuje in nadzoruj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4000" y="4581360"/>
            <a:ext cx="3240000" cy="6426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Načrtuje raziskavo (ima problem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4000" y="5516640"/>
            <a:ext cx="3311280" cy="368280"/>
          </a:xfrm>
          <a:prstGeom prst="rect">
            <a:avLst/>
          </a:prstGeom>
          <a:solidFill>
            <a:srgbClr val="f2dffd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renese problem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4000" y="6165720"/>
            <a:ext cx="324000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Ima problem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95640" y="2997360"/>
            <a:ext cx="216072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OPAZOVALEC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067280" y="4581360"/>
            <a:ext cx="208908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ZNANSTVENIK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24360" y="6149880"/>
            <a:ext cx="230328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ORABNIK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88000" y="2060640"/>
            <a:ext cx="2160720" cy="368280"/>
          </a:xfrm>
          <a:prstGeom prst="rect">
            <a:avLst/>
          </a:prstGeom>
          <a:solidFill>
            <a:srgbClr val="f2dffd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reagir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443640" y="2997360"/>
            <a:ext cx="244944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Zapisuje reakcij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16720" y="3645000"/>
            <a:ext cx="2303280" cy="642600"/>
          </a:xfrm>
          <a:prstGeom prst="rect">
            <a:avLst/>
          </a:prstGeom>
          <a:solidFill>
            <a:srgbClr val="f2dffd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renaša zapisane reakcij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16720" y="4581360"/>
            <a:ext cx="237636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Obdela podatk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16720" y="5229360"/>
            <a:ext cx="2303280" cy="368280"/>
          </a:xfrm>
          <a:prstGeom prst="rect">
            <a:avLst/>
          </a:prstGeom>
          <a:solidFill>
            <a:srgbClr val="f2dffd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oroča o rezultatih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516720" y="6165720"/>
            <a:ext cx="2303280" cy="6426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Izbere smer delovanja za pr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476360" y="5877000"/>
            <a:ext cx="0" cy="288720"/>
          </a:xfrm>
          <a:prstGeom prst="line">
            <a:avLst/>
          </a:prstGeom>
          <a:ln w="93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476360" y="5229360"/>
            <a:ext cx="0" cy="287280"/>
          </a:xfrm>
          <a:prstGeom prst="line">
            <a:avLst/>
          </a:prstGeom>
          <a:ln w="93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1476360" y="4292640"/>
            <a:ext cx="0" cy="288720"/>
          </a:xfrm>
          <a:prstGeom prst="line">
            <a:avLst/>
          </a:prstGeom>
          <a:ln w="93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476360" y="3645000"/>
            <a:ext cx="0" cy="288720"/>
          </a:xfrm>
          <a:prstGeom prst="line">
            <a:avLst/>
          </a:prstGeom>
          <a:ln w="93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1476360" y="2707920"/>
            <a:ext cx="0" cy="289080"/>
          </a:xfrm>
          <a:prstGeom prst="line">
            <a:avLst/>
          </a:prstGeom>
          <a:ln w="93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195640" y="1557360"/>
            <a:ext cx="1871640" cy="503280"/>
          </a:xfrm>
          <a:prstGeom prst="line">
            <a:avLst/>
          </a:prstGeom>
          <a:ln w="93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84720" y="1628640"/>
            <a:ext cx="935280" cy="432000"/>
          </a:xfrm>
          <a:prstGeom prst="line">
            <a:avLst/>
          </a:prstGeom>
          <a:ln w="93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308720" y="2421000"/>
            <a:ext cx="0" cy="576360"/>
          </a:xfrm>
          <a:prstGeom prst="line">
            <a:avLst/>
          </a:prstGeom>
          <a:ln w="93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308720" y="3357720"/>
            <a:ext cx="0" cy="287280"/>
          </a:xfrm>
          <a:prstGeom prst="line">
            <a:avLst/>
          </a:prstGeom>
          <a:ln w="93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292640"/>
            <a:ext cx="0" cy="288720"/>
          </a:xfrm>
          <a:prstGeom prst="line">
            <a:avLst/>
          </a:prstGeom>
          <a:ln w="93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308720" y="4941720"/>
            <a:ext cx="0" cy="287640"/>
          </a:xfrm>
          <a:prstGeom prst="line">
            <a:avLst/>
          </a:prstGeom>
          <a:ln w="93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380360" y="5877000"/>
            <a:ext cx="0" cy="288720"/>
          </a:xfrm>
          <a:prstGeom prst="line">
            <a:avLst/>
          </a:prstGeom>
          <a:ln w="93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NAČRTOVANJE RAZISKAV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aziskava kot proces preverjanja in oblikovanja teorij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3635280" y="1628640"/>
            <a:ext cx="216072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teorij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211640" y="2349360"/>
            <a:ext cx="1297080" cy="642600"/>
          </a:xfrm>
          <a:prstGeom prst="rect">
            <a:avLst/>
          </a:prstGeom>
          <a:solidFill>
            <a:srgbClr val="f2dffd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Logično sklepanj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4000" y="2060640"/>
            <a:ext cx="2663640" cy="1191240"/>
          </a:xfrm>
          <a:prstGeom prst="rect">
            <a:avLst/>
          </a:prstGeom>
          <a:solidFill>
            <a:srgbClr val="f2dffd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Oblikovanje pojmov, oblikovanje stavkov, ureditev stavkov v teorijo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732720" y="2205000"/>
            <a:ext cx="1439640" cy="642600"/>
          </a:xfrm>
          <a:prstGeom prst="rect">
            <a:avLst/>
          </a:prstGeom>
          <a:solidFill>
            <a:srgbClr val="f2dffd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Logična dedukcij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4000" y="4005360"/>
            <a:ext cx="316836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Empirične generalizacij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924360" y="3933720"/>
            <a:ext cx="2160360" cy="91692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Sprejmemo ali zavrnemo hipotezo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732720" y="4005360"/>
            <a:ext cx="201600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Hipoteze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635280" y="5157720"/>
            <a:ext cx="2664000" cy="368280"/>
          </a:xfrm>
          <a:prstGeom prst="rect">
            <a:avLst/>
          </a:prstGeom>
          <a:solidFill>
            <a:srgbClr val="f2dffd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reverjanje hipotez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4000" y="5661000"/>
            <a:ext cx="2447640" cy="916920"/>
          </a:xfrm>
          <a:prstGeom prst="rect">
            <a:avLst/>
          </a:prstGeom>
          <a:solidFill>
            <a:srgbClr val="f2dffd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Merjenje, vzorčne ocene, ocenjevanje parametrov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492360" y="6308640"/>
            <a:ext cx="288000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Opazovanje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32720" y="5300640"/>
            <a:ext cx="2160360" cy="1191240"/>
          </a:xfrm>
          <a:prstGeom prst="rect">
            <a:avLst/>
          </a:prstGeom>
          <a:solidFill>
            <a:srgbClr val="f2dffd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Interpretacija, merski instrumenti, vzorčenj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556000" y="1773360"/>
            <a:ext cx="1008000" cy="2872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867280" y="1844640"/>
            <a:ext cx="865440" cy="289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380360" y="2852640"/>
            <a:ext cx="0" cy="1152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380360" y="4437000"/>
            <a:ext cx="0" cy="7923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6443640" y="6165720"/>
            <a:ext cx="216000" cy="287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2843280" y="6308640"/>
            <a:ext cx="504720" cy="1447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332000" y="4365720"/>
            <a:ext cx="0" cy="12952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332000" y="3284640"/>
            <a:ext cx="0" cy="7207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76720" y="4365720"/>
            <a:ext cx="503280" cy="792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6084720" y="4437000"/>
            <a:ext cx="648000" cy="7207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4859280" y="1988640"/>
            <a:ext cx="0" cy="3603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NAČRTOVANJE RAZISKAVE: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Pojem načrtovanja: Začetek načrtovanja - slika dokončane hiš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246400" y="1600200"/>
            <a:ext cx="46497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NAČRTOVANJE RAZISKAVE: Pojem načrtovanja: 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Predvidevanje odločitev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Kaj hočemo ugotoviti?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(problem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 čem naj zberemo podatke?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(značilnosti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Kdo nam bo dal podatke?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(viri podatkov, enote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Kako naj zberemo podatke?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(metoda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Kako naj analiziramo podatke? (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stat. metod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NAČRTOVANJE RAZISKAV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‘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Načrtovanje je proces odločanja vnaprej, preden se pojavi situacija, v kateri je potrebno odločitev izvesti. Zapis tega procesa načrtovanja pa je načrt.’ (Ackoff 1966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Primer: želim preučiti življenjske razmere starih na določenem ozemlju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Odločiti se moram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- čemu naj raziskava služi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- koga naj sprašuje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- kako natančne podatke naj zbere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- kako naj zberem podatk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- kako naj podatke zapišem in uredi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- kdaj naj zbiram podatk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Ko odgovarjam na ta vprašanja, že načrtujem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NAČRTOVANJE RAZISKAV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AZE RAZISKAV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1989000"/>
            <a:ext cx="352728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1. PRELIMINARNA FAZ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40000" y="2997360"/>
            <a:ext cx="2592360" cy="6426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2. FAZA NAČRTOVANJ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43280" y="4292640"/>
            <a:ext cx="230508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3. FAZA IZVEDB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27640" y="5516640"/>
            <a:ext cx="259236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4. POROČANJ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2492280"/>
            <a:ext cx="0" cy="360360"/>
          </a:xfrm>
          <a:prstGeom prst="line">
            <a:avLst/>
          </a:prstGeom>
          <a:ln w="93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43280" y="3789360"/>
            <a:ext cx="0" cy="431640"/>
          </a:xfrm>
          <a:prstGeom prst="line">
            <a:avLst/>
          </a:prstGeom>
          <a:ln w="93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72360" y="4797360"/>
            <a:ext cx="0" cy="576360"/>
          </a:xfrm>
          <a:prstGeom prst="line">
            <a:avLst/>
          </a:prstGeom>
          <a:ln w="93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NAČRTOVANJE RAZISKAV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AZE RAZISKAVE – PRELIMINARNA FAZ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1989000"/>
            <a:ext cx="352728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IDEJA ZA RAZISKAVO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340000" y="2997360"/>
            <a:ext cx="2592360" cy="6426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KONZULTACIJA, ŠTUDIJ LITERATUR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43280" y="4292640"/>
            <a:ext cx="2305080" cy="6426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REDLOG RAZISKAV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27640" y="5516640"/>
            <a:ext cx="259236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ODOBREN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03640" y="2492280"/>
            <a:ext cx="0" cy="360360"/>
          </a:xfrm>
          <a:prstGeom prst="line">
            <a:avLst/>
          </a:prstGeom>
          <a:ln w="93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43280" y="3789360"/>
            <a:ext cx="0" cy="431640"/>
          </a:xfrm>
          <a:prstGeom prst="line">
            <a:avLst/>
          </a:prstGeom>
          <a:ln w="93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5445000"/>
            <a:ext cx="259236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NI ODOBREN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35280" y="6237360"/>
            <a:ext cx="252072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KONEC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92720" y="6308640"/>
            <a:ext cx="3708360" cy="36828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PODROBNO NAČRTOVANJ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492000" y="4869000"/>
            <a:ext cx="863640" cy="431640"/>
          </a:xfrm>
          <a:prstGeom prst="line">
            <a:avLst/>
          </a:prstGeom>
          <a:ln w="93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43640" y="5084640"/>
            <a:ext cx="504720" cy="289080"/>
          </a:xfrm>
          <a:prstGeom prst="line">
            <a:avLst/>
          </a:prstGeom>
          <a:ln w="93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27280" y="5877000"/>
            <a:ext cx="0" cy="288720"/>
          </a:xfrm>
          <a:prstGeom prst="line">
            <a:avLst/>
          </a:prstGeom>
          <a:ln cap="rnd" w="93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187280" y="3789360"/>
            <a:ext cx="1584360" cy="1511280"/>
          </a:xfrm>
          <a:prstGeom prst="line">
            <a:avLst/>
          </a:prstGeom>
          <a:ln cap="rnd" w="93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67640" y="5950080"/>
            <a:ext cx="0" cy="287280"/>
          </a:xfrm>
          <a:prstGeom prst="line">
            <a:avLst/>
          </a:prstGeom>
          <a:ln w="7632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NAČRTOVANJE RAZISKAVE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AZE RAZISKAVE – PRELIMINARNA FAZ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Obdobje: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od ideje do odobrene raziskav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Končni izdelek: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predlog raziskav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Končna odločitev: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sklep o začetku načrtovanja raziskav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Opravila: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zamisel – sporočimo zamisel – priprava predloga – predstavitev in zagovor predlog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NAČRTOVANJE RAZISKAVE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AZE RAZISKAVE – PRELIMINARNA FAZA </a:t>
            </a: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– Predlog raziskav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zhodiščni položaj: opis praktičnih (teoretičnih) okolišči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oblem raziskav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edvidena metod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edvideni rezultat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oki izvedb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edvidena sredstv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2:13:44Z</dcterms:created>
  <dc:creator>Liljana Rihter</dc:creator>
  <dc:description/>
  <dc:language>en-US</dc:language>
  <cp:lastModifiedBy>Liljana Rihter</cp:lastModifiedBy>
  <dcterms:modified xsi:type="dcterms:W3CDTF">2008-10-14T10:14:47Z</dcterms:modified>
  <cp:revision>17</cp:revision>
  <dc:subject/>
  <dc:title>Diapozitiv 1</dc:title>
</cp:coreProperties>
</file>